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03D-FFDB-438F-847B-02BF42A8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980-7D9F-4ABB-8CFF-4D7571E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76C-4A5B-4352-9C07-22B7C2F2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277-2CCA-438C-8A88-4FE1EF03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ADB6-E8EE-4510-854C-B6C0715C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25A-83D4-461C-B69F-ECDBB45E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4A1C-6914-446A-B6B3-C180284E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4BE7-94C4-4654-AAEB-C0324EC2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949D-DF29-42F1-A9DE-6F4562C0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D05-5724-42BB-AB92-3A113280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F0E1-DD6A-409D-BFA4-BC41CE09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A90-687F-4D9E-AC5D-4CEAAB5A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522-F163-46EB-A36B-16C0329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2AC-0EEE-4B91-B8DB-5AF43132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8469-518E-48BE-8556-6058B4BD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12F-30BA-4B32-A969-814E11A2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89DD-12B7-41A5-85A3-4954C855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F91-939B-4517-9FD8-61DB3D8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CA5-2FC8-4436-B0D0-35614DB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09D-E619-4C4E-90F7-BB9BA62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395-5D3C-47BE-84B4-B10FC1FA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323-6373-4C11-9E8A-481AB66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8A5-8A1C-4F6C-9E9F-8C5DF9B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ABF-3388-4A81-A03C-8D95E4D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7F2C-74EE-41FB-928A-E86A94B834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25BC-C126-4A24-85CC-F5B2B8CC57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5400" spc="-1" strike="noStrike">
                <a:solidFill>
                  <a:srgbClr val="420000"/>
                </a:solidFill>
                <a:latin typeface="Times New Roman"/>
              </a:rPr>
              <a:t>Romanc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Arial"/>
              </a:rPr>
              <a:t>La ed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420000"/>
                </a:solidFill>
                <a:latin typeface="Times New Roman"/>
              </a:rPr>
              <a:t>Fondos históric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Arte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Cantares de g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Juglares y trov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Frag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Tipos de Rom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Histórico/Fronter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Times New Roman"/>
              </a:rPr>
              <a:t>Llanto dolor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Lírico/Novel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Times New Roman"/>
              </a:rPr>
              <a:t>Autor anó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420000"/>
                </a:solidFill>
                <a:latin typeface="Times New Roman"/>
              </a:rPr>
              <a:t>Estructur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Estribillo explo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Reforzar el mens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Intercalado/en media 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Octosílab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Musi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Ritmo de la re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Asonancia xaxaxax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Rima la a para expresar sorpresa y dolor (¡Ah!) por haber perdido Alh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Para predecir la pérdida de la Gr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Uso de di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Producir vo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Extraer otros puntos de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Voz poé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Alfaqu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3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imes New Roman"/>
              </a:rPr>
              <a:t>Rey m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Apóstro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00"/>
                </a:solidFill>
                <a:latin typeface="Times New Roman"/>
              </a:rPr>
              <a:t>Sinale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Times New Roman"/>
              </a:rPr>
              <a:t>Para mantener la musicalidad de los ve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42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University Summer AP Conference, 24 July 2003, Yolanda Soliz (Lead Consult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4:08:01Z</dcterms:created>
  <dc:creator>Preferred Customer</dc:creator>
  <dc:description/>
  <dc:language>en-US</dc:language>
  <cp:lastModifiedBy>Preferred Customer</cp:lastModifiedBy>
  <dcterms:modified xsi:type="dcterms:W3CDTF">2003-07-24T14:45:09Z</dcterms:modified>
  <cp:revision>6</cp:revision>
  <dc:subject/>
  <dc:title>Romances</dc:title>
</cp:coreProperties>
</file>